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E1B7-74E0-48DF-A1E1-4CFED2C8D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44E1-C349-4B57-B7C1-BD66323F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E961-C6AF-44C2-96E7-530B0EF27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1B7C-3FA7-4CCB-9D88-A60A06DB9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D51E9-3FC8-464E-99B5-4397ECE6F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E520-7786-4759-BB22-157AD044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10EE-1CE0-4BA6-9282-3223D3EE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BB57-4670-4815-934B-9F6AA6D4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E6F4-E648-4C6B-9716-7B00F560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B920-6583-40DF-AF4A-4B963217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045C-6DA3-497D-8846-474AE060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687B-4DFF-4234-8E55-5ED11B51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58F3-41FE-4133-A3B1-464BC91C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3BD0-837F-429B-B54E-CB6B6F40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B4C5-7534-426C-82E2-BF1FA429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8B43B-2799-4AFB-8D1E-1EB8604DB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99033-3C51-48EF-B3F8-C4354CC81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5C84-2F36-4283-8D7F-8AF1A89A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C731-0474-421A-888B-2C31498D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A0A5-C401-45B9-94F0-D12704C0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114D-8DCA-4D81-A91A-D105446E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3588-9DB5-47AD-8ABF-90E99165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4507-44D8-4D71-802B-A13B66B1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E178-C413-4FF8-918F-CADA4FA5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056F-F6FB-4933-B26E-762623FFF3C4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5553-5EDB-469C-8151-6CCFE019013C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566640" y="1170000"/>
            <a:ext cx="8242560" cy="2811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полнил ученик 9 «г» класса Рома Петр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Documents and Settings\Admin\Мои документы\Мои рисунки\doz.jpg"/>
          <p:cNvPicPr/>
          <p:nvPr/>
        </p:nvPicPr>
        <p:blipFill>
          <a:blip r:embed="rId3"/>
          <a:stretch/>
        </p:blipFill>
        <p:spPr>
          <a:xfrm>
            <a:off x="1285920" y="1428840"/>
            <a:ext cx="6419880" cy="47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Documents and Settings\Admin\Мои документы\Мои рисунки\1-web.jpg"/>
          <p:cNvPicPr/>
          <p:nvPr/>
        </p:nvPicPr>
        <p:blipFill>
          <a:blip r:embed="rId3"/>
          <a:stretch/>
        </p:blipFill>
        <p:spPr>
          <a:xfrm>
            <a:off x="1571760" y="1428840"/>
            <a:ext cx="61912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годные условия мешают нам бегать. Если погода ветреная или дождливая, то просто можно промокнуть и простыть, а против сильного ветра вообще нет смыла стараться сопротивляться и бежать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уман, дожди и ливни и т.д. также являются помехами, так как способствуют невозможностью занятия бег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Documents and Settings\Admin\Мои документы\Мои рисунки\a0e456a138b6.jpg"/>
          <p:cNvPicPr/>
          <p:nvPr/>
        </p:nvPicPr>
        <p:blipFill>
          <a:blip r:embed="rId3"/>
          <a:stretch/>
        </p:blipFill>
        <p:spPr>
          <a:xfrm>
            <a:off x="1214280" y="1357200"/>
            <a:ext cx="6786720" cy="50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ремя суток – важная сложность в беге.  Если мы бегаем в темное время суток, то видимость практически нулевая, что делает практически невозможным занятия бегом. И вообще ночью надо спать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281160" y="96840"/>
            <a:ext cx="8807400" cy="144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изическое развитие человека – это основная сложность, возникающая при занятии бегом. Ведь здоровый и натренированный человек будет заниматься бегом в удовольствие, а если человек слабый и больной то чрезмерные нагрузки только ему навредят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ожности будут в основном для слабых людей с плохой «дыхалкой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ждый из нас знает что спорт и вредные привычки вещи не совместимы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лкоголь              курение                     наркоти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2" descr="C:\Documents and Settings\Admin\Мои документы\Мои рисунки\DSCF7588-web.jpg"/>
          <p:cNvPicPr/>
          <p:nvPr/>
        </p:nvPicPr>
        <p:blipFill>
          <a:blip r:embed="rId2"/>
          <a:stretch/>
        </p:blipFill>
        <p:spPr>
          <a:xfrm>
            <a:off x="285840" y="342900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:\Documents and Settings\Admin\Мои документы\Мои рисунки\smoker.jpg"/>
          <p:cNvPicPr/>
          <p:nvPr/>
        </p:nvPicPr>
        <p:blipFill>
          <a:blip r:embed="rId3"/>
          <a:stretch/>
        </p:blipFill>
        <p:spPr>
          <a:xfrm>
            <a:off x="3000240" y="3429000"/>
            <a:ext cx="2928960" cy="1933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:\Documents and Settings\Admin\Мои документы\Мои рисунки\51800008_9c46c27ae1cc.jpg"/>
          <p:cNvPicPr/>
          <p:nvPr/>
        </p:nvPicPr>
        <p:blipFill>
          <a:blip r:embed="rId4"/>
          <a:stretch/>
        </p:blipFill>
        <p:spPr>
          <a:xfrm>
            <a:off x="6000840" y="3429000"/>
            <a:ext cx="302400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ведя некоторые исследования, я пришел к выводу, что помехами при в занятии бегом являются следующие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фактор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годные услов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ремя суто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изическое развитие челове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редные привыч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unter0k</dc:creator>
  <dc:description/>
  <dc:language>en-US</dc:language>
  <cp:lastModifiedBy>Hunter0k</cp:lastModifiedBy>
  <dcterms:modified xsi:type="dcterms:W3CDTF">2010-06-07T16:46:43Z</dcterms:modified>
  <cp:revision>6</cp:revision>
  <dc:subject/>
  <dc:title>Слайд 1</dc:title>
</cp:coreProperties>
</file>